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9EBE6-BAEA-4270-B1FA-EBD916F1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824EF-2825-46D4-9999-A6474A08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B6C7B-1E9F-49D0-B879-B3BD9E16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24365-415F-4CDA-8EB8-8CAED0EA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BC30-FA38-480C-B32F-A07A5AF0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0E3E-B593-409C-9A83-EB5DC16F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7D85-B5CB-4427-8A16-B8759B39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AFE5-49A7-4E09-863F-1D4122CB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C515-272B-4054-BC3E-A96FDBEB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62EB-1C4E-42AC-84ED-8407A28A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077A-4DB7-4896-B309-3FBA79DA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39794-41EA-4ACC-BBCE-54221F1F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BB2B-03E8-4A45-863B-5E4E34B8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2EDF-CD80-4375-A8E5-9BB93E18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535B-5178-44A1-8F09-D04447D7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92F2-9157-41EA-A2B4-249B9904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E348-4003-4E69-A919-3D5B600D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02747-0B69-4870-95B4-CA846729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BC561-73F1-4C7A-AF9F-ADAC5BA6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74E35-CB1F-4353-8DC9-993F7393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AE436-15EF-481F-B0B1-280FEC19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CE761-0769-4307-91EF-E1B5B94C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0A2DD-44C9-45B3-A9A4-3AAE3807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D04D5-74B9-4ED9-9F7F-8A4F2325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97F8-3FC4-4B9C-B0AF-BB4BA80D01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345B-6E66-4F61-B6CF-BBE46FDDEC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Логопедически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удентки 617 гр. Сухарькова Вероника и Урбан Татья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3588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врики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буквы ты видишь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98064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правильная бу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равь одну букву и прочти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2779560"/>
            <a:ext cx="4038480" cy="2289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Исправь одну букву и прочти слово"/>
          <p:cNvPicPr/>
          <p:nvPr/>
        </p:nvPicPr>
        <p:blipFill>
          <a:blip r:embed="rId2"/>
          <a:stretch/>
        </p:blipFill>
        <p:spPr>
          <a:xfrm>
            <a:off x="5003640" y="1916280"/>
            <a:ext cx="3822840" cy="4546440"/>
          </a:xfrm>
          <a:prstGeom prst="rect">
            <a:avLst/>
          </a:prstGeom>
          <a:ln w="0">
            <a:noFill/>
          </a:ln>
        </p:spPr>
      </p:pic>
    </p:spTree>
  </p:cSld>
  <p:transition advTm="11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витие зрительного внимания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утаница (ана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ши буквы в клеточках, проследив линию, и прочти получившееся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Напиши буквы в клеточках"/>
          <p:cNvPicPr/>
          <p:nvPr/>
        </p:nvPicPr>
        <p:blipFill>
          <a:blip r:embed="rId1"/>
          <a:stretch/>
        </p:blipFill>
        <p:spPr>
          <a:xfrm>
            <a:off x="1763640" y="2421000"/>
            <a:ext cx="5112000" cy="3981240"/>
          </a:xfrm>
          <a:prstGeom prst="rect">
            <a:avLst/>
          </a:prstGeom>
          <a:ln w="0">
            <a:noFill/>
          </a:ln>
        </p:spPr>
      </p:pic>
    </p:spTree>
  </p:cSld>
  <p:transition advTm="11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спутай сл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пиши слоги в клетки и прочитай слова, которые у тебя получи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Впиши слоги в клетки"/>
          <p:cNvPicPr/>
          <p:nvPr/>
        </p:nvPicPr>
        <p:blipFill>
          <a:blip r:embed="rId1"/>
          <a:stretch/>
        </p:blipFill>
        <p:spPr>
          <a:xfrm>
            <a:off x="1547640" y="2421000"/>
            <a:ext cx="5848560" cy="40003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57240" y="2273400"/>
            <a:ext cx="7229520" cy="23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457200"/>
            <a:ext cx="8147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ировать необходимые для обучения навыки; применять имеющиеся знания в различных условиях; развивать внимание, мышление, волю и любознательность. Увлекательные игры для дошкольников и первоклассников помогут закрепить элементарные знания по фонетике, освоить и развить навыки чтения, закрепить прочный фундамент грамотного пись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16000" y="907920"/>
            <a:ext cx="6648480" cy="62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ель логопедических игр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advTm="8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ставление слов из бук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станови алфав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авь букву, которая должна идти по алфави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4000680"/>
            <a:ext cx="850752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ши соседей буквы — предыдущую и последующ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Вставь букву"/>
          <p:cNvPicPr/>
          <p:nvPr/>
        </p:nvPicPr>
        <p:blipFill>
          <a:blip r:embed="rId1"/>
          <a:stretch/>
        </p:blipFill>
        <p:spPr>
          <a:xfrm>
            <a:off x="324000" y="2276640"/>
            <a:ext cx="5781600" cy="150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соседей буквы"/>
          <p:cNvPicPr/>
          <p:nvPr/>
        </p:nvPicPr>
        <p:blipFill>
          <a:blip r:embed="rId2"/>
          <a:stretch/>
        </p:blipFill>
        <p:spPr>
          <a:xfrm>
            <a:off x="539640" y="5013360"/>
            <a:ext cx="5295960" cy="139068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витие мышления и обогащение лекси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етий лиш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ой звук лишний и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ПИ(П — соглас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ШЧ(Ч — мяг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(А — глас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ЙЧЦ(Ц — твёрд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ТМ(М — звон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ЖЦ(Ч — мяг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ВК(К — глух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ЙЩ(Ш — твёрдый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вой кроссвордё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иши слова в клеточки так, чтобы они пересекались первыми и последними бук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3716280"/>
            <a:ext cx="3024360" cy="2718000"/>
          </a:xfrm>
          <a:prstGeom prst="rect">
            <a:avLst/>
          </a:prstGeom>
          <a:ln w="0">
            <a:noFill/>
          </a:ln>
        </p:spPr>
      </p:pic>
    </p:spTree>
  </p:cSld>
  <p:transition advTm="14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14716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айнворд «Лесен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920" y="1052280"/>
            <a:ext cx="4316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гадай слова и впиши их в указанном стрелками направлении. Последняя буква первого слова является одновременно первой буквой второго слова и т. д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Рыба, живущая у дн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Месяц весны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Лекарство для смазывания царапин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Вьётся из трубы, когда топят печь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Им пишут на доске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Папа лися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Его заметают на совок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То, чем бодается коров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Он загорается, когда к плите подносят спич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1341360"/>
            <a:ext cx="4038480" cy="5112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Чайнворд Лесенка"/>
          <p:cNvPicPr/>
          <p:nvPr/>
        </p:nvPicPr>
        <p:blipFill>
          <a:blip r:embed="rId2"/>
          <a:stretch/>
        </p:blipFill>
        <p:spPr>
          <a:xfrm>
            <a:off x="4284720" y="2060640"/>
            <a:ext cx="4583160" cy="33336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вуко-буквенный анали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ди волнистую линию так, чтобы гласные остались сверху, а согласные — сни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рисунок звуко-буквенный анализ"/>
          <p:cNvPicPr/>
          <p:nvPr/>
        </p:nvPicPr>
        <p:blipFill>
          <a:blip r:embed="rId1"/>
          <a:stretch/>
        </p:blipFill>
        <p:spPr>
          <a:xfrm>
            <a:off x="395280" y="2852640"/>
            <a:ext cx="8064360" cy="32832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вуко-буквенный синтез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нобукв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и выпиши все большие буквы и составь слово, найди и выпиши все маленькие буквы и составь слов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все большие белые буквы, все большие чёрные буквы, все маленькие белые, все маленькие чёрные и составь из них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Найди и выпиши все большие буквы"/>
          <p:cNvPicPr/>
          <p:nvPr/>
        </p:nvPicPr>
        <p:blipFill>
          <a:blip r:embed="rId1"/>
          <a:stretch/>
        </p:blipFill>
        <p:spPr>
          <a:xfrm>
            <a:off x="684360" y="3213000"/>
            <a:ext cx="7740360" cy="311148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логовое дом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б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аждом кубике — буквы одного слова, на каждой грани кубика — одна буква. Напиши в клетках внизу те буквы, которые не вид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На каждом кубике — буквы одного слова"/>
          <p:cNvPicPr/>
          <p:nvPr/>
        </p:nvPicPr>
        <p:blipFill>
          <a:blip r:embed="rId1"/>
          <a:stretch/>
        </p:blipFill>
        <p:spPr>
          <a:xfrm>
            <a:off x="1258920" y="2708280"/>
            <a:ext cx="6467400" cy="376236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гры с буква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уквы-сестр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йди все одинаковые буквы. О — обведи в кружок, У — в квадрат, И — подчерк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дела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буквы можно сделать из этих заготов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О — обведи в кружок"/>
          <p:cNvPicPr/>
          <p:nvPr/>
        </p:nvPicPr>
        <p:blipFill>
          <a:blip r:embed="rId1"/>
          <a:stretch/>
        </p:blipFill>
        <p:spPr>
          <a:xfrm>
            <a:off x="684360" y="2565360"/>
            <a:ext cx="4819680" cy="466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Сделай буквы"/>
          <p:cNvPicPr/>
          <p:nvPr/>
        </p:nvPicPr>
        <p:blipFill>
          <a:blip r:embed="rId2"/>
          <a:stretch/>
        </p:blipFill>
        <p:spPr>
          <a:xfrm>
            <a:off x="755640" y="4365720"/>
            <a:ext cx="5810400" cy="183816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6:17:31Z</dcterms:created>
  <dc:creator>студент</dc:creator>
  <dc:description/>
  <dc:language>en-US</dc:language>
  <cp:lastModifiedBy>студент</cp:lastModifiedBy>
  <dcterms:modified xsi:type="dcterms:W3CDTF">2012-04-17T07:13:56Z</dcterms:modified>
  <cp:revision>3</cp:revision>
  <dc:subject/>
  <dc:title>Логопедические</dc:title>
</cp:coreProperties>
</file>